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1A7-66E1-4A26-8448-DB89195C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FC3-B220-4147-A1EA-81F2CCE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5BA23-3350-4E0B-8024-DBE4F893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122DE-558A-4510-BCAE-4D5B2B04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4989A-5C8D-4989-BE56-0A84D48B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EC40E-084A-473D-A47A-92E9706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5A6BE-46D9-4C9D-9972-515C7319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9D0D9-D7A5-4155-BB9F-77422905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20CB1-903D-4E93-A5C7-96087741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0C5B8-A1E0-4466-B281-385AFFE9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B7635-304B-475C-8352-37A8D2A4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C0947-4F53-48DD-8827-03EA7BE7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4EF-6185-4792-85D0-BD10E4AC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FECF8-6A16-40D7-B629-E2CE57BD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BB692-5983-44C4-A83E-7ACDF23F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74397-8520-431A-8107-0733BCCC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B605A-FD96-4F50-94E2-83BCFAFB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0355E-B045-4707-8282-CB17FC96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9DCA8-9CEB-4797-A4CC-D0EF7B6E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34CC3-9778-44E0-A866-9736A291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B32D8-D7B9-462B-AC36-460F5FEF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D20FB-CCFC-4E81-AD02-89B9721B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33699-F6E2-496F-A50E-1FD9BA52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50B-B32D-4E21-85FC-D4656C62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77893-E753-4088-8C21-4DBA3305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E543F-3DA3-4F16-8B33-7E0DCD8D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D44FB-037F-4E32-BED0-A6A7CF4E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DD640-20B6-4CBA-B724-F728EACA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F8BBC-5153-4F9D-A056-38EA94C6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D6022-17BE-4892-A4A5-B8BE7A21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22B4A-0A7F-4E88-A405-74D0DBFF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66747-8909-4E48-9BE0-C0DBA2D8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378AB-B56E-4DB7-8736-845D8370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4EF56-23AB-48CD-9D60-1A8081E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55C9-8550-4626-A20F-E1DD899A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16A73-67CC-4BCD-B976-959EC87E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6229B-F5BF-4470-8853-60A66C28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0B03C-576B-4EDB-930C-A4DCCF35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71DC2-33D7-41A1-BA19-9DCA6203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99A54-C8EB-4157-A90E-4CDCC472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08BC8-AE9D-4CB5-B304-3B1C3773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DC69D-C0BD-47F2-9021-2D81DE78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7A9EF-F550-44DF-8120-0AD6F8A1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2A742-4D8B-4A78-BBFF-3396CA43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104F6-822F-42B6-BC8C-C91CD865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2338-3012-45AE-8CC6-66E41447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08AB7-40BF-4BCB-A210-CC192AFE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A01F8-59DD-4C08-9726-EE7ED1C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BE852-53E8-49D3-8A53-C785EB6E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EAD6E-DFA5-4786-9683-FE645653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175F2-C96C-4554-AFF9-1EAADF53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4F0CC-B71E-4697-A051-4885583F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C5395-6396-4C91-A4BF-2BE3A88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349FA-34D3-4CF1-B462-DAF717D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A4BBE-1AB4-4F14-ABEE-BF6409D0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69FC5-1D62-49EB-9833-ADAD3591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0921-D76B-4821-BF45-75CF890B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B197B-D158-40F4-AA4F-13E5A49B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4711C-486D-410B-A59A-E68DB4D9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42EF8-8CFC-44EC-BA4E-4A60E882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166AF-5E65-4CD9-8FB4-7112537D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A994F-E106-4D45-8ACD-21EECA82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12D61-704E-4FCD-88FD-83AAF439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EA504-0D41-4095-87A8-B87D3F94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B806B-2107-40F0-8694-00517BC4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3A239-ADD4-4A8D-B380-E5BD913E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057B7-CA16-4A59-A130-46F7C98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6FD5-7546-4E01-B62B-548B2E02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DF79B-75E7-4DC3-8E61-EEF12585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2FF48-7762-42DA-A80F-22B2DBFD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E89B3-E70D-4575-879E-2D6E8BC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13BCD-9D25-404D-BF4D-EBDA17C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8B737-D87A-4607-A7F4-F293C9D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D2C5E-343D-4571-80AA-FDC5BE1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0DC59-AF5C-4740-83D7-30C21947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34705-9235-497C-8F0D-3E2417A8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FE4C5-4155-43A2-BC25-2F27F3B9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951A3-3E64-4B1F-84C4-8E718419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287C-F5E0-4A81-B934-C9BAE51F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1E723-7B24-4EE3-BF25-07010A3A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7C606-76F8-43E0-BDC0-D49C4C60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3AA28-B6C2-4986-B638-6D72DB32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0B6E1-8D1C-4A34-9733-0BEA314E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EE3B2-9A99-489E-93AE-561449D2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E32E8-5F56-4D54-A697-027A185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D11E5-F33C-48E6-9903-2FBCC2E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694C7-6F2E-4D59-B593-430F4AE9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9DBC5-E82E-40DB-B250-CD435D8B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951EB-EA74-4C58-AF57-7A3AE9C4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FD21-DA78-430B-9250-41B1AC8D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E408D-1974-43AD-89D6-A9A2BE25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30DE8-475B-40CF-B743-BE03C18A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ECA9D-3550-45B5-B2D1-594B771A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A204A-A27A-4C4E-8D75-BE262C97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35B33-A440-46DC-9574-7873E411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5834F8-5ECE-44C1-92A1-6F6DA4B6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F95F4-881E-4FCD-AB66-05AD225E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40EDE-1630-4D67-ADC8-2F2652F8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29D4E-57F7-44E9-B128-25D2E1B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2AF54-FC9F-414E-AACE-415561D3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6CC7-3C10-4043-A310-F644BF9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98D8F-75CD-4FA9-ABDB-747756BD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006FEA-4522-4AE6-86F4-4D62108C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762BF5-5574-48D4-9C79-1E6D0A15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13F9D-20EF-486B-A118-4435BE3A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59CD6-68C2-4FC4-B012-FBDAA472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736B8-7F3D-4635-BFB6-0D0822A3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3A630-478A-4091-873D-06B17B30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85215-E612-4547-94F0-36A7E98B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F6720-6CB1-4EC7-8D08-2BBE7462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8FEAE-12E8-4817-A322-3BC540DB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41B-7990-4867-BF1F-D8820ADE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1208-1BB2-4D93-948C-0DA366F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853F4F-492E-48C3-A62E-11D9958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6CB08-02CE-44CB-B0C4-D891BBD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8036E-E838-4754-83FA-B1F74E1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1210E-717E-4FDE-94D6-B923B0B3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8A137-E977-4B7E-A1AB-A8C95C98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521AF-D159-4C80-98C6-05927090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BBF75-709F-4326-AB34-36AA0822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5F01C-36FD-4E68-B948-F4782433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4340E-71B4-4070-A91A-97A0840E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6A89E-77AC-4516-A74B-84D7A7F1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B6A5-34F7-4E36-8950-77D7FE3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D1E3C-25EB-455E-A150-38869130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AF86EC-2DCC-4CC1-AAEC-95D83E74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3346B-3C9F-4C4A-AE74-A999BD8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217C6-33F4-4EE0-920B-F2AD215B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C6855-678E-40DD-9BAA-470FC16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BAA45-DE49-4438-8D1C-DC663C16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678CA-1619-48DC-963F-CBC2FC3B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117EA4-0E16-47E8-A3D0-5531DCF7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0AC699-D156-4283-88E5-67881FB4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C1A4A-6A6E-419C-8C47-96E10AAE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5144-EAB6-4193-AC6D-F09186E1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1355B-9F32-47A7-86D5-C4B51CC6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5DA64-0248-41EA-A107-93FEDC06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2D316-CAC9-401E-8FDF-71B54289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C853B-5B79-47F4-9D82-0C3E680E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81741C-15BE-4A72-A056-D0D11153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9D3EF2-5BE7-46AF-B262-5AD2A5C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675AB-002F-42F4-AEF3-5814752D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F9E9D-3377-4491-B918-B183F1A3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E62D33-B3D0-4797-AF64-DBE8ADBE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24F35D-6B81-4C0F-B602-876FBD02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52AF-89F5-411C-9953-94892E24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6CFB6-D8A1-4A4B-8BD3-8687DD3B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563B10-6526-4FB9-8519-D0110DA5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DB1D6-BF6F-466F-8FC5-910C4F9B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A9B70A-DE7A-4C17-8F74-07077F77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32255-1BFD-469E-873C-6A1A93D0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16772-9943-4C9E-8F4A-EC9D3717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59C20-ACC2-4024-B5EF-1D65754A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3F91F-0AE0-4FE3-B967-926D9A0C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0AA18-2512-4DA0-8D06-41B4952C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D3BFC-9735-41BE-97FB-83B666FE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96DC-90CF-4201-A443-871BC816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1D368-AE93-48ED-A0E5-7E0E7D28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0F4F8-4EDA-4D81-B5E8-B3DB8C8D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CF549-BF1C-4CD5-8FFF-0E1E8CA3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D07E4-EC19-4AF3-ACF1-16ACAC04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4D98F-0460-441F-9455-C8E319C7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4A136-12B8-4168-B703-FD9F19E6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923EA-3A4A-4581-9720-40DF0A0E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E3347-2408-4D83-9877-88BB6A9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BEDBC-A638-4511-AB3C-696C2BE0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4006F-56E0-45C2-B5E8-D37D92F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688E-D188-4F5D-B2FC-2263DEA0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3326CA-68BA-4B27-B523-28EAFEBB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282667-A406-4D02-B971-DE3097FF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AD9C0A-3F15-44BE-BD07-F26554D8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00601F-CB3F-4653-9710-96EF24F9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47D241-2832-4772-A85C-8FB22309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C02BB-4C37-4AD0-AC7C-256EE48A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19FDE5-EC6D-49D9-A817-F1F12FF8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57A64D-ABE8-4AE2-9516-5A7A1910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D3B49A-C414-4E32-BDDD-341676C4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485298-6154-4D21-AA86-2CEEF41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4224-8429-47F9-AC1D-7EFFF0A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65D9D8-8E1C-487C-BBB9-DDDD3E6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AD92A1-D3BE-4493-8A1F-E21476E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790ED-6AAD-4DBF-B900-569F0E0A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B88375-4E7D-4E43-A1FE-3390B874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839BEE-F1EB-48B4-8F5B-2FD5FBAA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02B89C-CE4F-40FE-A97B-52E9F9FC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9F74C6-1081-4DB0-B398-D1072C7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147539-F502-4F5D-B127-D4FB9DD1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99D419-4436-4316-A08B-E0543C9D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6CE955-1725-4546-A55E-C39A40F6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C398-8F2B-42BD-BF60-6B516DAB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5009AB-CA93-490E-AF08-49F64978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A23B40-885D-4E87-8F51-911AF990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667E9C-5B95-4260-A157-90043FC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837B22-B25A-4357-B9F7-866DC70F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FA58C1-96F3-4105-B168-79967352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E74E9B-958D-44F8-9E99-1DA0E35F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4F4BA7-DB08-4624-8520-55CD6BF0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C377-2EF5-41FE-A480-7CDA3226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1A2E3-4C1A-47C3-8997-E1918CD3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BF8-C74D-4E6D-B07E-B5BE5074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00B4-1FAB-4FA2-B075-C3B75E4E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457A-5DC2-4FD0-99FB-C1B96074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EC54-07A6-4869-AA37-E6FA07B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DCF5-6D08-4131-9D22-396FCD3F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01E7-6EB8-4C7B-9E0A-C69AA50F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0993-8C37-4882-A8DE-24B22366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609E-417A-4D64-BF5C-0E3C1CA3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980B-F349-4271-AD50-D1143C39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B86F-C2A3-41A1-8889-E8DA8927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211E-55A3-4BDB-B054-88D99456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E3F-113F-4C1E-8AE6-C7347C70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DDE5-CEAD-4F18-BDE6-B4F114B8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3FBE9-6D4E-4F0B-B72F-03B56C0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4255F-C88F-49B1-B22B-E7FD0870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D9DE-9838-4424-8995-70AA9AE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2411-91D1-48DB-9FA6-2F9A03F0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9ED7-60AD-4B50-B7B0-D8B2DF1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D54BA-F8E9-45BC-BF25-56EAF91F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E16B6-8E8D-4A0A-AE27-F0B91310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84EA-2DFD-4E91-B9E7-89F94253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6DD0-1E09-4CD9-9CE2-0694E5A2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0AA-1E70-45F1-8DA2-2D1F2B4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C6B4-EBB0-49DB-8292-132E92A3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D64E6-2344-4A58-9942-9C6ED68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1C89A-8654-4D01-A93C-837B8766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4A5E-287D-40EF-BB75-150E7A16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98B3-12E8-452F-A800-DF2CB7CB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73BB-F82D-4468-80E2-B66ADE5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A4E63-26F3-4D58-83C6-657F4B2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4630-C795-441F-8B40-4299B288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A888-C90F-4CCA-BA3A-F401D6F4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D81F-DE9F-4AC9-9750-76DF3B7C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553-221A-4435-BCA7-CB5A4CE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89971-054E-4C46-9D95-8FCE3D62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3BBF-9A04-4CA1-821E-4F4E1D18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79597-165F-43EA-B592-ADC6DC99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DC7DA-8F49-4EC2-9044-80FB855E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13898-981F-4C02-BBCC-F661823C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3B87-E1E1-49B8-97E3-5953E0A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284C2-71D5-4BD0-B2C4-4DEA0E18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67AF6-1A1D-4180-997C-88F3E3D3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61078-E42C-4A52-A1DA-CA32C00D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DFE06-69ED-4E23-A070-65B3FA6A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1C4-380B-4B0A-AB7C-9F41AF99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30CF-F593-4EC0-A2CA-0EA9A521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27410-DBF8-46B0-B3B8-0E646490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3BA77-B56C-4979-B490-E71C35FB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8E92-C1A1-46EA-8C97-52BC7602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1EF67-CC4D-4FFD-B12F-929CCE83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18B07-1111-48E4-9BFE-10622657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1DB18-FE23-4D5E-919E-E8EB4FD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2BA0A-15A7-4D5F-ADF6-5DE30238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A37F-7337-4AAF-AC56-55EE51D8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89F79-CF03-441E-A2FD-A219993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A29-284F-4BDB-8A6A-F8737E0B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3782C-71B3-49EA-8300-28DEEC0C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C6EA0-047D-4003-8D13-49FF4DAB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416C-B70D-4F71-A3F7-1F6C3E3B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7779A-35B3-4C9E-8658-DE5BB23C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32576-F04A-43E5-A206-1ED92736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F0A43-2375-4A3D-A74D-319BBEC5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3F9D4-8627-4159-95B4-BE2DBE44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A3014-5591-401B-B17B-0D53BB1E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852BC-4E12-4DC6-A52B-D87FE3C9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FB6A6-47A5-4A3A-9E9F-CCEB5F56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826-DAA1-416B-B48E-91E2F98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97D0B-15D5-463D-8F09-4CE42837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27283-7DBA-42C0-A913-6337D6C2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86DE8-761A-43C3-A6AB-3B38A04A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7264B-DBC7-45B9-BE97-DE83D920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74FFF-79AB-46D5-8D42-AD5E71C5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5BB15-C7EC-41EB-86B6-022F1178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DD91E-CB0A-4D16-AF70-291524AE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E439D-1ACC-4DB7-9CB4-CD11FF64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0BBCB-F741-4082-97A5-90ABD0E1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4CD40-708F-4CF8-8859-B1E4BF9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F6D3-B012-417A-9562-C2BADA5027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4302-C33B-4EE4-AB1C-DAB749BC4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B735-692E-46F4-9CCF-B5F7E1401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72FA-862A-4E79-8ECF-C92823B7E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8E1C-77FC-4CFC-8098-F9302ADB95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418E-BA85-45BA-9723-4198DFD205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B37D-29C4-4B37-A7D6-4FF88B08E4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A78-24C0-4B49-87A9-71DD6F58FD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637A-42C6-4C3C-9DA4-038077501E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4073-6CDD-4701-B63F-9EE102CB7D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61EF-31ED-43A8-A601-787AE111D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0C0D-AC6D-451D-B3CF-EEE1447A7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7ED9-CE76-4994-AC98-201D9E84E0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19AD-EFD5-400E-89F0-41B68B96C6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868C-78B5-4961-A21E-3072B45F0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A83D-5ADD-43C7-8FBB-5947FCAF0C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17FE-7A9A-4F04-A1A0-C24FF068B5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1169-5D9D-4825-B61A-CF23039407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78BC-DD93-427F-B09E-23729142E7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9E4A-AB7F-4721-8A48-AC60B3FF55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049C-2B5F-4F92-B7AD-7CEDF2A146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94E2-9D8B-4EC9-821D-CEE7B71E05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8782-9177-43DC-9DB5-8D74F9674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4C6C-2A5B-4E77-9E5C-E0020CAE19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03E7-E045-4B74-A971-7F6F834C88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EE35-D66B-4886-9EF4-80C292B922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0488-4ECD-4DD2-84F9-90EED29CC1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0FDC-F169-4A69-9134-1CBC62123F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D632-B674-4A88-BFF8-CADFE080B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7C82-1B20-4500-8F7F-CA228B3019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1214-0CCB-4C56-B918-63AC2D3687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146D-EC85-4C08-A183-309B4E03EB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9387-163D-442C-8D1A-54617D13FE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3D92-5AAA-4FAE-8FC1-FD94835F54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106A-B0E9-48AE-B0E8-A377C6FA8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75B6-744F-402E-B16A-FDA1AE692C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E86C-4DAB-4374-A80C-D51BF8E01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5683-C0E6-4ED4-9683-BCDB87A57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D789-6023-4621-9333-2DB400A8E0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4D0-3169-472F-BCD0-4B346F8D9E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591C-45C2-477F-8199-5E339088A3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4573-1C05-4CA4-88CC-EF871C478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7.png"/><Relationship Id="rId2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9.png"/><Relationship Id="rId3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QQ图片20200801082446"/>
          <p:cNvPicPr/>
          <p:nvPr/>
        </p:nvPicPr>
        <p:blipFill>
          <a:blip r:embed="rId1"/>
          <a:stretch/>
        </p:blipFill>
        <p:spPr>
          <a:xfrm>
            <a:off x="274680" y="2066760"/>
            <a:ext cx="85946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图片 1" descr=""/>
          <p:cNvPicPr/>
          <p:nvPr/>
        </p:nvPicPr>
        <p:blipFill>
          <a:blip r:embed="rId1"/>
          <a:stretch/>
        </p:blipFill>
        <p:spPr>
          <a:xfrm>
            <a:off x="209520" y="2038320"/>
            <a:ext cx="8724960" cy="278136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2"/>
          <a:stretch/>
        </p:blipFill>
        <p:spPr>
          <a:xfrm>
            <a:off x="539640" y="2838600"/>
            <a:ext cx="6480360" cy="31896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3"/>
          <a:stretch/>
        </p:blipFill>
        <p:spPr>
          <a:xfrm>
            <a:off x="468360" y="4019400"/>
            <a:ext cx="84963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6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图片 1" descr=""/>
          <p:cNvPicPr/>
          <p:nvPr/>
        </p:nvPicPr>
        <p:blipFill>
          <a:blip r:embed="rId1"/>
          <a:stretch/>
        </p:blipFill>
        <p:spPr>
          <a:xfrm>
            <a:off x="90360" y="1785960"/>
            <a:ext cx="8963280" cy="328608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2"/>
          <a:stretch/>
        </p:blipFill>
        <p:spPr>
          <a:xfrm>
            <a:off x="4614840" y="3443400"/>
            <a:ext cx="604800" cy="31896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" descr=""/>
          <p:cNvPicPr/>
          <p:nvPr/>
        </p:nvPicPr>
        <p:blipFill>
          <a:blip r:embed="rId3"/>
          <a:stretch/>
        </p:blipFill>
        <p:spPr>
          <a:xfrm>
            <a:off x="1332000" y="4292640"/>
            <a:ext cx="215640" cy="31896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" descr=""/>
          <p:cNvPicPr/>
          <p:nvPr/>
        </p:nvPicPr>
        <p:blipFill>
          <a:blip r:embed="rId4"/>
          <a:stretch/>
        </p:blipFill>
        <p:spPr>
          <a:xfrm>
            <a:off x="1792440" y="4292640"/>
            <a:ext cx="215640" cy="31896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" descr=""/>
          <p:cNvPicPr/>
          <p:nvPr/>
        </p:nvPicPr>
        <p:blipFill>
          <a:blip r:embed="rId5"/>
          <a:stretch/>
        </p:blipFill>
        <p:spPr>
          <a:xfrm>
            <a:off x="755640" y="4681440"/>
            <a:ext cx="604800" cy="319320"/>
          </a:xfrm>
          <a:prstGeom prst="rect">
            <a:avLst/>
          </a:prstGeom>
          <a:ln w="0">
            <a:noFill/>
          </a:ln>
        </p:spPr>
      </p:pic>
      <p:pic>
        <p:nvPicPr>
          <p:cNvPr id="1225" name="图片 15367" descr=""/>
          <p:cNvPicPr/>
          <p:nvPr/>
        </p:nvPicPr>
        <p:blipFill>
          <a:blip r:embed="rId6"/>
          <a:stretch/>
        </p:blipFill>
        <p:spPr>
          <a:xfrm>
            <a:off x="6099120" y="1728720"/>
            <a:ext cx="29145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图片 1" descr=""/>
          <p:cNvPicPr/>
          <p:nvPr/>
        </p:nvPicPr>
        <p:blipFill>
          <a:blip r:embed="rId1"/>
          <a:stretch/>
        </p:blipFill>
        <p:spPr>
          <a:xfrm>
            <a:off x="85680" y="652320"/>
            <a:ext cx="8972640" cy="611532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" descr=""/>
          <p:cNvPicPr/>
          <p:nvPr/>
        </p:nvPicPr>
        <p:blipFill>
          <a:blip r:embed="rId2"/>
          <a:stretch/>
        </p:blipFill>
        <p:spPr>
          <a:xfrm>
            <a:off x="5292720" y="455292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" descr=""/>
          <p:cNvPicPr/>
          <p:nvPr/>
        </p:nvPicPr>
        <p:blipFill>
          <a:blip r:embed="rId3"/>
          <a:stretch/>
        </p:blipFill>
        <p:spPr>
          <a:xfrm>
            <a:off x="755640" y="530064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" descr=""/>
          <p:cNvPicPr/>
          <p:nvPr/>
        </p:nvPicPr>
        <p:blipFill>
          <a:blip r:embed="rId4"/>
          <a:stretch/>
        </p:blipFill>
        <p:spPr>
          <a:xfrm>
            <a:off x="684360" y="5661000"/>
            <a:ext cx="7200720" cy="31896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1" descr=""/>
          <p:cNvPicPr/>
          <p:nvPr/>
        </p:nvPicPr>
        <p:blipFill>
          <a:blip r:embed="rId5"/>
          <a:stretch/>
        </p:blipFill>
        <p:spPr>
          <a:xfrm>
            <a:off x="755640" y="6049800"/>
            <a:ext cx="7201080" cy="31932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1" descr=""/>
          <p:cNvPicPr/>
          <p:nvPr/>
        </p:nvPicPr>
        <p:blipFill>
          <a:blip r:embed="rId6"/>
          <a:stretch/>
        </p:blipFill>
        <p:spPr>
          <a:xfrm>
            <a:off x="741240" y="648180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232" name="图片 16391" descr=""/>
          <p:cNvPicPr/>
          <p:nvPr/>
        </p:nvPicPr>
        <p:blipFill>
          <a:blip r:embed="rId7"/>
          <a:stretch/>
        </p:blipFill>
        <p:spPr>
          <a:xfrm>
            <a:off x="1908000" y="1484280"/>
            <a:ext cx="54770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5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5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0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图片 1" descr=""/>
          <p:cNvPicPr/>
          <p:nvPr/>
        </p:nvPicPr>
        <p:blipFill>
          <a:blip r:embed="rId1"/>
          <a:stretch/>
        </p:blipFill>
        <p:spPr>
          <a:xfrm>
            <a:off x="247680" y="2414520"/>
            <a:ext cx="8648640" cy="20289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" descr=""/>
          <p:cNvPicPr/>
          <p:nvPr/>
        </p:nvPicPr>
        <p:blipFill>
          <a:blip r:embed="rId2"/>
          <a:stretch/>
        </p:blipFill>
        <p:spPr>
          <a:xfrm>
            <a:off x="539640" y="3181320"/>
            <a:ext cx="1440000" cy="31896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1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7632720" cy="31932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7632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7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2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7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66600" y="723960"/>
            <a:ext cx="9010800" cy="58863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7380360" y="1125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1692360" y="2924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216684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780000" y="2924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425448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1835280" y="364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2309760" y="364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10"/>
          <a:stretch/>
        </p:blipFill>
        <p:spPr>
          <a:xfrm>
            <a:off x="3635280" y="3630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11"/>
          <a:stretch/>
        </p:blipFill>
        <p:spPr>
          <a:xfrm>
            <a:off x="4110120" y="36306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12"/>
          <a:stretch/>
        </p:blipFill>
        <p:spPr>
          <a:xfrm>
            <a:off x="5796000" y="4149720"/>
            <a:ext cx="1081080" cy="318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13"/>
          <a:stretch/>
        </p:blipFill>
        <p:spPr>
          <a:xfrm>
            <a:off x="4067280" y="453708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14"/>
          <a:stretch/>
        </p:blipFill>
        <p:spPr>
          <a:xfrm>
            <a:off x="1403280" y="537372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15"/>
          <a:stretch/>
        </p:blipFill>
        <p:spPr>
          <a:xfrm>
            <a:off x="2627280" y="537372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16"/>
          <a:stretch/>
        </p:blipFill>
        <p:spPr>
          <a:xfrm>
            <a:off x="3851280" y="537372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7"/>
          <a:stretch/>
        </p:blipFill>
        <p:spPr>
          <a:xfrm>
            <a:off x="5148360" y="537372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8"/>
          <a:stretch/>
        </p:blipFill>
        <p:spPr>
          <a:xfrm>
            <a:off x="857160" y="6165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9"/>
          <a:stretch/>
        </p:blipFill>
        <p:spPr>
          <a:xfrm>
            <a:off x="1332000" y="6165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0"/>
          <a:stretch/>
        </p:blipFill>
        <p:spPr>
          <a:xfrm>
            <a:off x="3333600" y="6165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1"/>
          <a:stretch/>
        </p:blipFill>
        <p:spPr>
          <a:xfrm>
            <a:off x="3808440" y="616572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81080" y="2438280"/>
            <a:ext cx="8781840" cy="1981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6443640" y="2852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3924360" y="3284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4859280" y="3213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6732720" y="321300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7"/>
          <a:stretch/>
        </p:blipFill>
        <p:spPr>
          <a:xfrm>
            <a:off x="7308720" y="364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8"/>
          <a:stretch/>
        </p:blipFill>
        <p:spPr>
          <a:xfrm>
            <a:off x="7812000" y="364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9"/>
          <a:stretch/>
        </p:blipFill>
        <p:spPr>
          <a:xfrm>
            <a:off x="3665520" y="4076640"/>
            <a:ext cx="316080" cy="281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10"/>
          <a:stretch/>
        </p:blipFill>
        <p:spPr>
          <a:xfrm>
            <a:off x="4140360" y="4100400"/>
            <a:ext cx="31572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1" descr=""/>
          <p:cNvPicPr/>
          <p:nvPr/>
        </p:nvPicPr>
        <p:blipFill>
          <a:blip r:embed="rId1"/>
          <a:stretch/>
        </p:blipFill>
        <p:spPr>
          <a:xfrm>
            <a:off x="76320" y="2157480"/>
            <a:ext cx="8991360" cy="25430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2"/>
          <a:stretch/>
        </p:blipFill>
        <p:spPr>
          <a:xfrm>
            <a:off x="8388360" y="2565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3"/>
          <a:stretch/>
        </p:blipFill>
        <p:spPr>
          <a:xfrm>
            <a:off x="8388360" y="299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4"/>
          <a:stretch/>
        </p:blipFill>
        <p:spPr>
          <a:xfrm>
            <a:off x="8388360" y="3429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5"/>
          <a:stretch/>
        </p:blipFill>
        <p:spPr>
          <a:xfrm>
            <a:off x="8317080" y="3789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6"/>
          <a:stretch/>
        </p:blipFill>
        <p:spPr>
          <a:xfrm>
            <a:off x="8388360" y="422100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图片 1" descr=""/>
          <p:cNvPicPr/>
          <p:nvPr/>
        </p:nvPicPr>
        <p:blipFill>
          <a:blip r:embed="rId1"/>
          <a:stretch/>
        </p:blipFill>
        <p:spPr>
          <a:xfrm>
            <a:off x="57240" y="890640"/>
            <a:ext cx="9029520" cy="50767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2"/>
          <a:stretch/>
        </p:blipFill>
        <p:spPr>
          <a:xfrm>
            <a:off x="1432080" y="23385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3"/>
          <a:stretch/>
        </p:blipFill>
        <p:spPr>
          <a:xfrm>
            <a:off x="1908000" y="2320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4"/>
          <a:stretch/>
        </p:blipFill>
        <p:spPr>
          <a:xfrm>
            <a:off x="3375000" y="23367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5"/>
          <a:stretch/>
        </p:blipFill>
        <p:spPr>
          <a:xfrm>
            <a:off x="3851280" y="23194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6"/>
          <a:stretch/>
        </p:blipFill>
        <p:spPr>
          <a:xfrm>
            <a:off x="1488960" y="2798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7"/>
          <a:stretch/>
        </p:blipFill>
        <p:spPr>
          <a:xfrm>
            <a:off x="1965240" y="2781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8"/>
          <a:stretch/>
        </p:blipFill>
        <p:spPr>
          <a:xfrm>
            <a:off x="3317760" y="2798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9"/>
          <a:stretch/>
        </p:blipFill>
        <p:spPr>
          <a:xfrm>
            <a:off x="3794040" y="2781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10"/>
          <a:stretch/>
        </p:blipFill>
        <p:spPr>
          <a:xfrm>
            <a:off x="1503360" y="42242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11"/>
          <a:stretch/>
        </p:blipFill>
        <p:spPr>
          <a:xfrm>
            <a:off x="1979640" y="42069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12"/>
          <a:stretch/>
        </p:blipFill>
        <p:spPr>
          <a:xfrm>
            <a:off x="3375000" y="42242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13"/>
          <a:stretch/>
        </p:blipFill>
        <p:spPr>
          <a:xfrm>
            <a:off x="3851280" y="42069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14"/>
          <a:stretch/>
        </p:blipFill>
        <p:spPr>
          <a:xfrm>
            <a:off x="1503360" y="4670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15"/>
          <a:stretch/>
        </p:blipFill>
        <p:spPr>
          <a:xfrm>
            <a:off x="1979640" y="4653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16"/>
          <a:stretch/>
        </p:blipFill>
        <p:spPr>
          <a:xfrm>
            <a:off x="3448080" y="46846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17"/>
          <a:stretch/>
        </p:blipFill>
        <p:spPr>
          <a:xfrm>
            <a:off x="3924360" y="46674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18"/>
          <a:stretch/>
        </p:blipFill>
        <p:spPr>
          <a:xfrm>
            <a:off x="1503360" y="5607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19"/>
          <a:stretch/>
        </p:blipFill>
        <p:spPr>
          <a:xfrm>
            <a:off x="1979640" y="5589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20"/>
          <a:stretch/>
        </p:blipFill>
        <p:spPr>
          <a:xfrm>
            <a:off x="3375000" y="5635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21"/>
          <a:stretch/>
        </p:blipFill>
        <p:spPr>
          <a:xfrm>
            <a:off x="3851280" y="56181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" descr=""/>
          <p:cNvPicPr/>
          <p:nvPr/>
        </p:nvPicPr>
        <p:blipFill>
          <a:blip r:embed="rId22"/>
          <a:stretch/>
        </p:blipFill>
        <p:spPr>
          <a:xfrm>
            <a:off x="5175360" y="5635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" descr=""/>
          <p:cNvPicPr/>
          <p:nvPr/>
        </p:nvPicPr>
        <p:blipFill>
          <a:blip r:embed="rId23"/>
          <a:stretch/>
        </p:blipFill>
        <p:spPr>
          <a:xfrm>
            <a:off x="5651640" y="56181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1" descr=""/>
          <p:cNvPicPr/>
          <p:nvPr/>
        </p:nvPicPr>
        <p:blipFill>
          <a:blip r:embed="rId24"/>
          <a:stretch/>
        </p:blipFill>
        <p:spPr>
          <a:xfrm>
            <a:off x="6975360" y="5635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25"/>
          <a:stretch/>
        </p:blipFill>
        <p:spPr>
          <a:xfrm>
            <a:off x="7451640" y="56181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9242" descr=""/>
          <p:cNvPicPr/>
          <p:nvPr/>
        </p:nvPicPr>
        <p:blipFill>
          <a:blip r:embed="rId26"/>
          <a:stretch/>
        </p:blipFill>
        <p:spPr>
          <a:xfrm>
            <a:off x="5365800" y="1341360"/>
            <a:ext cx="37432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图片 1" descr=""/>
          <p:cNvPicPr/>
          <p:nvPr/>
        </p:nvPicPr>
        <p:blipFill>
          <a:blip r:embed="rId1"/>
          <a:stretch/>
        </p:blipFill>
        <p:spPr>
          <a:xfrm>
            <a:off x="204840" y="777960"/>
            <a:ext cx="8734320" cy="57434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2"/>
          <a:stretch/>
        </p:blipFill>
        <p:spPr>
          <a:xfrm>
            <a:off x="1230480" y="1792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3"/>
          <a:stretch/>
        </p:blipFill>
        <p:spPr>
          <a:xfrm>
            <a:off x="1735200" y="1773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" descr=""/>
          <p:cNvPicPr/>
          <p:nvPr/>
        </p:nvPicPr>
        <p:blipFill>
          <a:blip r:embed="rId4"/>
          <a:stretch/>
        </p:blipFill>
        <p:spPr>
          <a:xfrm>
            <a:off x="3102120" y="1792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" descr=""/>
          <p:cNvPicPr/>
          <p:nvPr/>
        </p:nvPicPr>
        <p:blipFill>
          <a:blip r:embed="rId5"/>
          <a:stretch/>
        </p:blipFill>
        <p:spPr>
          <a:xfrm>
            <a:off x="3564000" y="1773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" descr=""/>
          <p:cNvPicPr/>
          <p:nvPr/>
        </p:nvPicPr>
        <p:blipFill>
          <a:blip r:embed="rId6"/>
          <a:stretch/>
        </p:blipFill>
        <p:spPr>
          <a:xfrm>
            <a:off x="1187280" y="22525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" descr=""/>
          <p:cNvPicPr/>
          <p:nvPr/>
        </p:nvPicPr>
        <p:blipFill>
          <a:blip r:embed="rId7"/>
          <a:stretch/>
        </p:blipFill>
        <p:spPr>
          <a:xfrm>
            <a:off x="1692360" y="22334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8"/>
          <a:stretch/>
        </p:blipFill>
        <p:spPr>
          <a:xfrm>
            <a:off x="3073320" y="22813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9"/>
          <a:stretch/>
        </p:blipFill>
        <p:spPr>
          <a:xfrm>
            <a:off x="3578400" y="22622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10"/>
          <a:stretch/>
        </p:blipFill>
        <p:spPr>
          <a:xfrm>
            <a:off x="1173240" y="27558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" descr=""/>
          <p:cNvPicPr/>
          <p:nvPr/>
        </p:nvPicPr>
        <p:blipFill>
          <a:blip r:embed="rId11"/>
          <a:stretch/>
        </p:blipFill>
        <p:spPr>
          <a:xfrm>
            <a:off x="1677960" y="2736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" descr=""/>
          <p:cNvPicPr/>
          <p:nvPr/>
        </p:nvPicPr>
        <p:blipFill>
          <a:blip r:embed="rId12"/>
          <a:stretch/>
        </p:blipFill>
        <p:spPr>
          <a:xfrm>
            <a:off x="3087720" y="2727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1" descr=""/>
          <p:cNvPicPr/>
          <p:nvPr/>
        </p:nvPicPr>
        <p:blipFill>
          <a:blip r:embed="rId13"/>
          <a:stretch/>
        </p:blipFill>
        <p:spPr>
          <a:xfrm>
            <a:off x="3592440" y="2708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" descr=""/>
          <p:cNvPicPr/>
          <p:nvPr/>
        </p:nvPicPr>
        <p:blipFill>
          <a:blip r:embed="rId14"/>
          <a:stretch/>
        </p:blipFill>
        <p:spPr>
          <a:xfrm>
            <a:off x="1187280" y="3203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" descr=""/>
          <p:cNvPicPr/>
          <p:nvPr/>
        </p:nvPicPr>
        <p:blipFill>
          <a:blip r:embed="rId15"/>
          <a:stretch/>
        </p:blipFill>
        <p:spPr>
          <a:xfrm>
            <a:off x="1692360" y="31845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" descr=""/>
          <p:cNvPicPr/>
          <p:nvPr/>
        </p:nvPicPr>
        <p:blipFill>
          <a:blip r:embed="rId16"/>
          <a:stretch/>
        </p:blipFill>
        <p:spPr>
          <a:xfrm>
            <a:off x="298764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17"/>
          <a:stretch/>
        </p:blipFill>
        <p:spPr>
          <a:xfrm>
            <a:off x="3995640" y="364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18"/>
          <a:stretch/>
        </p:blipFill>
        <p:spPr>
          <a:xfrm>
            <a:off x="2987640" y="4221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19"/>
          <a:stretch/>
        </p:blipFill>
        <p:spPr>
          <a:xfrm>
            <a:off x="4067280" y="4221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" descr=""/>
          <p:cNvPicPr/>
          <p:nvPr/>
        </p:nvPicPr>
        <p:blipFill>
          <a:blip r:embed="rId20"/>
          <a:stretch/>
        </p:blipFill>
        <p:spPr>
          <a:xfrm>
            <a:off x="1187280" y="4724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" descr=""/>
          <p:cNvPicPr/>
          <p:nvPr/>
        </p:nvPicPr>
        <p:blipFill>
          <a:blip r:embed="rId21"/>
          <a:stretch/>
        </p:blipFill>
        <p:spPr>
          <a:xfrm>
            <a:off x="2195640" y="4724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22"/>
          <a:stretch/>
        </p:blipFill>
        <p:spPr>
          <a:xfrm>
            <a:off x="1374840" y="56944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23"/>
          <a:stretch/>
        </p:blipFill>
        <p:spPr>
          <a:xfrm>
            <a:off x="1879560" y="56754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24"/>
          <a:stretch/>
        </p:blipFill>
        <p:spPr>
          <a:xfrm>
            <a:off x="3332160" y="57085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25"/>
          <a:stretch/>
        </p:blipFill>
        <p:spPr>
          <a:xfrm>
            <a:off x="3836880" y="56894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" descr=""/>
          <p:cNvPicPr/>
          <p:nvPr/>
        </p:nvPicPr>
        <p:blipFill>
          <a:blip r:embed="rId26"/>
          <a:stretch/>
        </p:blipFill>
        <p:spPr>
          <a:xfrm>
            <a:off x="5075280" y="57085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27"/>
          <a:stretch/>
        </p:blipFill>
        <p:spPr>
          <a:xfrm>
            <a:off x="5580000" y="56894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28"/>
          <a:stretch/>
        </p:blipFill>
        <p:spPr>
          <a:xfrm>
            <a:off x="6846840" y="57085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" descr=""/>
          <p:cNvPicPr/>
          <p:nvPr/>
        </p:nvPicPr>
        <p:blipFill>
          <a:blip r:embed="rId29"/>
          <a:stretch/>
        </p:blipFill>
        <p:spPr>
          <a:xfrm>
            <a:off x="7351560" y="56894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30"/>
          <a:stretch/>
        </p:blipFill>
        <p:spPr>
          <a:xfrm>
            <a:off x="1273320" y="6227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31"/>
          <a:stretch/>
        </p:blipFill>
        <p:spPr>
          <a:xfrm>
            <a:off x="1778040" y="62085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1201" name="图片 10272" descr=""/>
          <p:cNvPicPr/>
          <p:nvPr/>
        </p:nvPicPr>
        <p:blipFill>
          <a:blip r:embed="rId32"/>
          <a:stretch/>
        </p:blipFill>
        <p:spPr>
          <a:xfrm>
            <a:off x="5445000" y="836640"/>
            <a:ext cx="34480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图片 1" descr=""/>
          <p:cNvPicPr/>
          <p:nvPr/>
        </p:nvPicPr>
        <p:blipFill>
          <a:blip r:embed="rId1"/>
          <a:stretch/>
        </p:blipFill>
        <p:spPr>
          <a:xfrm>
            <a:off x="361800" y="2714760"/>
            <a:ext cx="8420400" cy="142848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" descr=""/>
          <p:cNvPicPr/>
          <p:nvPr/>
        </p:nvPicPr>
        <p:blipFill>
          <a:blip r:embed="rId2"/>
          <a:stretch/>
        </p:blipFill>
        <p:spPr>
          <a:xfrm>
            <a:off x="755640" y="3686040"/>
            <a:ext cx="3168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图片 1" descr=""/>
          <p:cNvPicPr/>
          <p:nvPr/>
        </p:nvPicPr>
        <p:blipFill>
          <a:blip r:embed="rId1"/>
          <a:stretch/>
        </p:blipFill>
        <p:spPr>
          <a:xfrm>
            <a:off x="19080" y="1442880"/>
            <a:ext cx="9105840" cy="3972240"/>
          </a:xfrm>
          <a:prstGeom prst="rect">
            <a:avLst/>
          </a:prstGeom>
          <a:ln w="0">
            <a:noFill/>
          </a:ln>
        </p:spPr>
      </p:pic>
      <p:pic>
        <p:nvPicPr>
          <p:cNvPr id="1205" name="图片 12290" descr=""/>
          <p:cNvPicPr/>
          <p:nvPr/>
        </p:nvPicPr>
        <p:blipFill>
          <a:blip r:embed="rId2"/>
          <a:stretch/>
        </p:blipFill>
        <p:spPr>
          <a:xfrm>
            <a:off x="2960640" y="2668680"/>
            <a:ext cx="37720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0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图片 1" descr=""/>
          <p:cNvPicPr/>
          <p:nvPr/>
        </p:nvPicPr>
        <p:blipFill>
          <a:blip r:embed="rId1"/>
          <a:stretch/>
        </p:blipFill>
        <p:spPr>
          <a:xfrm>
            <a:off x="14400" y="552600"/>
            <a:ext cx="9115200" cy="622908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2"/>
          <a:stretch/>
        </p:blipFill>
        <p:spPr>
          <a:xfrm>
            <a:off x="3348000" y="48751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" descr=""/>
          <p:cNvPicPr/>
          <p:nvPr/>
        </p:nvPicPr>
        <p:blipFill>
          <a:blip r:embed="rId3"/>
          <a:stretch/>
        </p:blipFill>
        <p:spPr>
          <a:xfrm>
            <a:off x="3851280" y="4869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4"/>
          <a:stretch/>
        </p:blipFill>
        <p:spPr>
          <a:xfrm>
            <a:off x="6443640" y="4797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" descr=""/>
          <p:cNvPicPr/>
          <p:nvPr/>
        </p:nvPicPr>
        <p:blipFill>
          <a:blip r:embed="rId5"/>
          <a:stretch/>
        </p:blipFill>
        <p:spPr>
          <a:xfrm>
            <a:off x="8215200" y="48117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" descr=""/>
          <p:cNvPicPr/>
          <p:nvPr/>
        </p:nvPicPr>
        <p:blipFill>
          <a:blip r:embed="rId6"/>
          <a:stretch/>
        </p:blipFill>
        <p:spPr>
          <a:xfrm>
            <a:off x="1620720" y="64738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7"/>
          <a:stretch/>
        </p:blipFill>
        <p:spPr>
          <a:xfrm>
            <a:off x="2124000" y="64674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8"/>
          <a:stretch/>
        </p:blipFill>
        <p:spPr>
          <a:xfrm>
            <a:off x="3621240" y="6431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9"/>
          <a:stretch/>
        </p:blipFill>
        <p:spPr>
          <a:xfrm>
            <a:off x="4124160" y="64245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" descr=""/>
          <p:cNvPicPr/>
          <p:nvPr/>
        </p:nvPicPr>
        <p:blipFill>
          <a:blip r:embed="rId10"/>
          <a:stretch/>
        </p:blipFill>
        <p:spPr>
          <a:xfrm>
            <a:off x="4844880" y="6408720"/>
            <a:ext cx="735120" cy="318960"/>
          </a:xfrm>
          <a:prstGeom prst="rect">
            <a:avLst/>
          </a:prstGeom>
          <a:ln w="0">
            <a:noFill/>
          </a:ln>
        </p:spPr>
      </p:pic>
      <p:pic>
        <p:nvPicPr>
          <p:cNvPr id="1216" name="图片 13323" descr=""/>
          <p:cNvPicPr/>
          <p:nvPr/>
        </p:nvPicPr>
        <p:blipFill>
          <a:blip r:embed="rId11"/>
          <a:stretch/>
        </p:blipFill>
        <p:spPr>
          <a:xfrm>
            <a:off x="2813040" y="907920"/>
            <a:ext cx="39909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1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0:26:1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